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509-B316-4F62-9110-6C16CFD0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07F-03D4-4170-A9E6-9940C36C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777-75F8-4350-A1CC-7774F86D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AFA-E163-4B84-A2ED-88965FB3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581F-229C-4232-A9B2-5B538B98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7058-09E4-4FA6-AB00-AB22604D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F906-B600-48B7-9F7D-71931D90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C859-4138-42AE-B52E-2E29C9F4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6F88-B00F-42EB-B004-A794AB80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1C59-6B4D-4D7C-B481-D700A605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5A8B-26F3-4227-A4FD-EAE00A14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B1A-BF98-49C0-B577-51EFF38F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A673-7136-4899-B03C-1C8F34D4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D959-DA35-4F13-BDC2-E9B7BE5B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A1F5-308F-4299-B9B0-EA0000A2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A2E9-101E-45BF-84CE-038F0BD5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F221-2FB7-4F9A-A29A-2C9CA425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370-C87C-48EC-A796-2B8A6A1C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B79-3AAF-4147-92E0-18F8FC09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B4C-9C03-43DF-AECE-B149DEC1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75D-A543-44B4-B378-78E7B61A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5C7-7C6C-4FB1-95A7-02F50B46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E90-96C8-4943-8F93-1D58F5DF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7A9-5F40-4D67-A1DE-B20DF15F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90CF8-95E0-403E-AE3A-D67F90CA23FD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EB313-4D66-465F-982B-9C0ADF21B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18ABD-5591-43DA-91EA-60E139013E6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2ED6B-47D5-4381-9A04-D9EFE8993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How to Control Severe Bleeding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80880" y="4267080"/>
            <a:ext cx="50389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95373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Times New Roman"/>
              </a:rPr>
              <a:t>Three ways to control Bl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5721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721480"/>
            <a:ext cx="281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63040" y="5599080"/>
            <a:ext cx="19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ryce Lari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-5867280" y="-7621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9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9bd36"/>
                </a:solidFill>
                <a:latin typeface="Times New Roman"/>
              </a:rPr>
              <a:t>Step On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bdf5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d0000"/>
                </a:solidFill>
                <a:latin typeface="Times New Roman"/>
              </a:rPr>
              <a:t>Apply direct and steady pressure to the wounded area, and also place a clean cloth on the wound and press down hard. If the blood soaks through the cloth you should add more cloth but do not take the first cloth off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830c"/>
                </a:solidFill>
                <a:latin typeface="Times New Roman"/>
              </a:rPr>
              <a:t>Step Tw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666880" y="220968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ee170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110c"/>
                </a:solidFill>
                <a:latin typeface="Times New Roman"/>
              </a:rPr>
              <a:t>If step one did not work after several tries then combine pressure on the wound with pressure on a main artery leading to the wound. You should push on the the pressure point in the artery until you feel b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7800" y="5292720"/>
            <a:ext cx="175248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ep Thre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4724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step in controlling the bleeding is to elevate the wound above the heart which forces the blood to travel uphill slowing the blee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76320" y="-4095720"/>
            <a:ext cx="9220320" cy="81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2:53:27Z</dcterms:created>
  <dc:creator>kms kms</dc:creator>
  <dc:description/>
  <dc:language>en-US</dc:language>
  <cp:lastModifiedBy>Kraybill Campus LMS</cp:lastModifiedBy>
  <dcterms:modified xsi:type="dcterms:W3CDTF">2011-05-24T13:11:31Z</dcterms:modified>
  <cp:revision>8</cp:revision>
  <dc:subject/>
  <dc:title>How to Control Severe Bleeding</dc:title>
</cp:coreProperties>
</file>